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317-CB15-42CA-A631-3BAA92F5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B6F5-6535-4337-9015-7C390ABF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7B0-B241-49EE-AA0A-37E9F0F4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8DB-1CA9-4EA7-B9A2-D41FA5AE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54C-D012-4FD7-BCCC-FB7D6F36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D44-01A6-48C4-B711-F2314968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564-9016-442F-B46D-8D732067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C9B0-7607-4E89-8A03-9B0BEBF9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0231-291B-4468-B65E-2CFF59E6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BA9-747E-461F-A1F4-042C66F5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591-0C4B-4949-80FA-AA1234BC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0F9-B027-4350-A1BA-FF43F143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206A-34BB-42B6-817E-335120C09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886280" cy="990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5943600" cy="709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2286000"/>
            <a:ext cx="6553440" cy="4390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24280" y="5029200"/>
            <a:ext cx="1905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525780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4674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629400" cy="1254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66880" y="914400"/>
            <a:ext cx="30492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914400"/>
            <a:ext cx="1522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5639040" cy="961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685800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238880" cy="1827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14479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127840" cy="6705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8120" y="13716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1828800"/>
            <a:ext cx="5331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228600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2666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6019920"/>
            <a:ext cx="1600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2:23:34Z</dcterms:created>
  <dc:creator>grahams</dc:creator>
  <dc:description/>
  <dc:language>en-US</dc:language>
  <cp:lastModifiedBy>grahams</cp:lastModifiedBy>
  <dcterms:modified xsi:type="dcterms:W3CDTF">2012-03-20T14:14:44Z</dcterms:modified>
  <cp:revision>2</cp:revision>
  <dc:subject/>
  <dc:title>Slide 1</dc:title>
</cp:coreProperties>
</file>